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25720" y="849240"/>
            <a:ext cx="407520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D0DB-84F5-4140-92FC-3D24CE3E63A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D8B3-C10B-4218-B2A0-4D3B964C938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62440" y="8685360"/>
            <a:ext cx="295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9E3B-5EA4-4320-B43C-C4B42C09BC5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925720" y="849240"/>
            <a:ext cx="4075200" cy="22939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924-86CF-4F64-9D15-3B0B55CEB15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62440" y="8685360"/>
            <a:ext cx="295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96C1-BA69-4BED-BAE3-3369FE84845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925720" y="849240"/>
            <a:ext cx="4075200" cy="22939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DE7-3213-4568-9D05-940CEDEA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F1B-13C4-4F0E-A142-153AFA6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1D2-E9DF-4572-BB1D-1B41049E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70E-1A5A-4353-BDC8-EDA60D46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56C-E8CE-4114-916B-2A7CF55A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02F-61CF-47BA-93D8-CFECE1D7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9FF-C72D-402A-8B77-04A67F4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E63-321E-4337-8116-0C44EC56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78E-1857-4776-B993-14D0251D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828-BADD-4750-8651-00315A9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9C6-6073-499A-837D-F043788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FD4-0317-4906-874D-06FD164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F88A-588A-4195-BFAB-51644AFAF6DB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ljeZBesedilom 1"/>
          <p:cNvSpPr/>
          <p:nvPr/>
        </p:nvSpPr>
        <p:spPr>
          <a:xfrm>
            <a:off x="1109520" y="1262160"/>
            <a:ext cx="892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SE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DRUGE V SLOVENIJI IN SV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KAPITAL IN FINANCIRANJE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PRAVLJANJE ZA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Avtor: dr. Franci Av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30560" y="888480"/>
            <a:ext cx="941688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DELEŽI ČLANOV ZADRUGE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lovenski računovodski standardi - </a:t>
            </a: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31.9.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(SRS 2016)</a:t>
            </a:r>
            <a:br>
              <a:rPr sz="2400"/>
            </a:b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b) Deleži članov zadruge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so del njenega kapitala, njihovo višino določijo člani v zadružnih pravilih skladno z Zakonom o zadrugah oziroma Uredbo 1435/2003/ES. Vpisani kapital SCE ne sme biti nižji od zneska, ki ga določajo pravila SCE, vendar ne nižji od 30.000 evrov.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 zadrugi, ustanovljeni na podlagi Zakona o zadrugah, zadružna pravila, ki dopuščajo prenos deležev, lahko določijo najnižji znesek, pod katerega se kapital zadruge, ki ga sestavljajo članski deleži, ne sme zmanjšati zaradi izplačil članom oziroma njihovim pravnim naslednikom.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 drugih zadrugah, ustanovljenih na podlagi Zakona o zadrugah, se lahko kapital spreminja, ne da bi bil določen spodnji znesek, pod katerega se ne sme znižati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77560" y="692280"/>
            <a:ext cx="9890280" cy="57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NERAZDELJIVI ZADRUŽNI KAPITAL</a:t>
            </a:r>
            <a:br>
              <a:rPr sz="28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lovenski računovodski standardi - </a:t>
            </a: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31.9.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(SRS 2016)</a:t>
            </a:r>
            <a:br>
              <a:rPr sz="2400"/>
            </a:b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a) Nerazdeljivi zadružni kapital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je trajni poslovni sklad zadruge, ki je nastal: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- kot nedeljivo čisto premoženje v zadrugah do uskladitve njihove organiziranosti z Zakonom o zadrugah (Uradni list SFRJ, št. 3/1990) oziroma Zakonom o zadrugah (Uradni list RS, št. 13/1992)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- čisto premoženje, ki ga je zadruga pridobila na podlagi določb Zakona o zadrugah o udeležbi zadrug pri lastninskem preoblikovanju določenih podjetij (57.–64. člen ZZad) oziroma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- o vračanju nekdanjega zadružnega premoženja (65.–68. člen ZZad), in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- čisto premoženje, ki ga je zadruga pridobila na podlagi akta o razdružitvi premoženja nekdanjih gozdnogospodarskih organizacij (točka b) iz 83. člena Zakona o gozdovih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8240" y="33300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 Light"/>
              </a:rPr>
              <a:t>NERAZDELJIVI ZADRUŽNI KAPITAL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lovenski računovodski standardi - </a:t>
            </a: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31.9.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(SRS 2016))</a:t>
            </a:r>
            <a:br>
              <a:rPr sz="2400"/>
            </a:br>
            <a:br>
              <a:rPr sz="20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je nedeljivo čisto premoženje zadruge, za katero se smiselno uporabljajo predpisi o lastninski pravici.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Namenjen je izključno za financiranje skupnega poslovanja zadruge in njenih članov.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redstev iz tega sklada ni mogoče razdeliti niti ob morebitni likvidaciji zadruge ali njenem stečaju niti ob prenehanju zadrug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oljeZBesedilom 2"/>
          <p:cNvSpPr/>
          <p:nvPr/>
        </p:nvSpPr>
        <p:spPr>
          <a:xfrm>
            <a:off x="816120" y="12682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Zakon o zadrugah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Zad-UPB2, Ur. l. RS, št. 97/2009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Zadruga je organizacija vnaprej nedoločenega števila članov, ki ima namen pospešev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gospodarske koristi in razvijati gospodarske ali družbene dejav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svojih članov ter temelji na prostovoljnem pristopu, svobodnem izstop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enakopravnem sodelovanju in upravljanju članov.  Zadruga lahko vo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svoje dejavnosti tudi preko odvisne družbe.”(člen 1/1 ZZ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oljeZBesedilom 4"/>
          <p:cNvSpPr/>
          <p:nvPr/>
        </p:nvSpPr>
        <p:spPr>
          <a:xfrm>
            <a:off x="6383160" y="1305000"/>
            <a:ext cx="4800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Uredba št. 1435/2003/ES o statutu evropske zadruge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UL EU L 207/20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Število članov in osnovni kapital SCE se lahko spremenita.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Glavni cilj evropske zadruge je zadovoljevanje potreb njenih član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in/ali razvijanje njihovih gospodarskih in/ali družbenih dejav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zlasti s sklepanjem sporazumov z njimi za dobavo blaga ali stori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ali izvedbo takšnih del, ki jih SCE izvaja ali naroča. … SCE lahko svo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dejavnosti vodi prek hčerinske družbe” (člen 1 Uredbe 1435/2003/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911160" y="549360"/>
            <a:ext cx="102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REDITEV UPRAVLJANJA IZHAJA IZ OPREDELITVE 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09680" y="193680"/>
            <a:ext cx="11455200" cy="55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EVROPSKA ZADRUGA: SOCIETAS COOPERATIVA EUROPAEA, S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Namen zadruge: zadovoljevati gospodarske potrebe članov in/ali pospeševati njihove gospodarske in socialne dejavnosti, zlasti s sklepanjem pogodb, lahko tudi po hčerinski druž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CE lahko nasta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1) z ustanovitvijo na novo (najmanj 5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fizičnih oseb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iz najmanj dveh različnih držav članic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2) z ustanovitvijo na novo (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najmanj 5 fizičnih in pravnih  oseb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iz najmanj dveh različnih držav članic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3) z ustanovitvijo na novo (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najmanj 2 družbi ali pravni osebi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iz različnih držav član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4) z združitvijo zadrug iz najmanj dveh različnih držav član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5) s preoblikovanjem zadruge, ustanovljene po pravu ene države članice, ki ima hčerinsko družbo ali podružnico v drugi državi članici, v S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39800" y="620640"/>
            <a:ext cx="1145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EVROPSKA ZADRUGA: SOCIETAS COOPERATIVA EUROPAEA, 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3. Minimalni znesek, pod katerega se z izplačili deležev ne sme znižati osnovni kapital, je 30.000 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4. Možnost enotirnega (občni zbor in upravni organ z neobveznimi izvršilnimi direktorji) ali dvotirnega sistema upravljanja (občni zbor, upravni odbor ali v manjših zadrugah predsednik in nadzorni orga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5. Možnost članov investitorjev (vlagateljev), če zadružno pravo po sedežu SCE to dopušč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6. Možnost prenosa sedeža iz ene  v drugo državo članico po posebnem postop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STATISTIKA: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Po neuradnih podatkih z dne 25. avgusta 2018 je bilo ustanovljenih samo  42 SCE (!) v  vseh 28 državah članicah.  Razlog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redba o SCE preveč odkazuje na zadružno pravo države članice, kjer ima SCE sede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leg tega so države članice za domače zadruge sprejele mnoge rešitve, kot veljajo za SCE, pogosto celo ugodn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ljeZBesedilom 1"/>
          <p:cNvSpPr/>
          <p:nvPr/>
        </p:nvSpPr>
        <p:spPr>
          <a:xfrm>
            <a:off x="860400" y="8064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Slika 18" descr=""/>
          <p:cNvPicPr/>
          <p:nvPr/>
        </p:nvPicPr>
        <p:blipFill>
          <a:blip r:embed="rId1"/>
          <a:stretch/>
        </p:blipFill>
        <p:spPr>
          <a:xfrm>
            <a:off x="1533600" y="1263600"/>
            <a:ext cx="7686720" cy="4967280"/>
          </a:xfrm>
          <a:prstGeom prst="rect">
            <a:avLst/>
          </a:prstGeom>
          <a:ln w="0">
            <a:noFill/>
          </a:ln>
        </p:spPr>
      </p:pic>
      <p:sp>
        <p:nvSpPr>
          <p:cNvPr id="79" name="PoljeZBesedilom 3"/>
          <p:cNvSpPr/>
          <p:nvPr/>
        </p:nvSpPr>
        <p:spPr>
          <a:xfrm>
            <a:off x="920520" y="430200"/>
            <a:ext cx="104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HEMA OBVEZNIH, POGOJNO OBVEZNIH IN PROSTOVOLJNIH  ORGANOV V ZADRU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oljeZBesedilom 1"/>
          <p:cNvSpPr/>
          <p:nvPr/>
        </p:nvSpPr>
        <p:spPr>
          <a:xfrm>
            <a:off x="932040" y="573120"/>
            <a:ext cx="1047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RENEHANJE ČLA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 zadrugi lahko članstvo preneha zaradi naslednjih razlog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Iz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Izključi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mrt fizične os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renehanje pravne os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renehanje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oljeZBesedilom 2"/>
          <p:cNvSpPr/>
          <p:nvPr/>
        </p:nvSpPr>
        <p:spPr>
          <a:xfrm>
            <a:off x="574560" y="453960"/>
            <a:ext cx="111729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POJEM ZADR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Mednarodna zadružna zveza (Izjava o zadružni istovetnosti,1995): „Zadruga je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avtonomno  združenje oseb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, ki so se prostovoljno povezale za uresničevanje skupnih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gospodarskih, socialnih in kulturnih potreb in hotenj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na podlagi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skupnega in demokratično upravljanega podjetja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kon o zadrugah (1992/2009): „Zadruga je organizacija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vnaprej nedoločenega števila članov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, ki ima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namen pospeševati gospodarske koristi in razvijati gospodarske ali družbene dejavnosti svojih članov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ter temelji na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prostovoljnem pristopu, svobodnem izstopu, enakopravnem sodelovanju in upravljanju članov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. Zadruga lahko vodi svoje dejavnosti tudi preko odvisne družbe.“ (1. č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redba 1435/2003/ES  o evropski zadrugi (2003): „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Glavni cilj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evropske zadruge je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zadovoljevanje potreb njenih članov in/ali razvijanje njihovih gospodarskih in/ali družbenih dejavnosti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zlasti s sklepanjem sporazumov z njimi za dobavo blaga ali storitev ali izvedbo takšnih del, ki jih SCE izvaja ali naroča…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“ „Število članov in osnovni kapital SCE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sta spremenljiva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“ (1. č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oljeZBesedilom 2"/>
          <p:cNvSpPr/>
          <p:nvPr/>
        </p:nvSpPr>
        <p:spPr>
          <a:xfrm>
            <a:off x="728640" y="641520"/>
            <a:ext cx="11172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JEM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Ameriška ekonomska teorija (R. Dunn, 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druga je  organizacija, katere uporabniki so hkr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lagatelji (user-owner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pravljalci (user-control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rejemniki koristi od njenega delovanja (user-benef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28640" y="5035680"/>
            <a:ext cx="108633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54160" y="5437080"/>
            <a:ext cx="1590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PORABN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570120" y="5435640"/>
            <a:ext cx="1540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LAGATEL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73280" y="5427720"/>
            <a:ext cx="1715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PRAVLJA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8742960" y="5424480"/>
            <a:ext cx="253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JEMNIKI KOR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055320" y="5468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500080" y="5460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8183160" y="5460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oljeZBesedilom 2"/>
          <p:cNvSpPr/>
          <p:nvPr/>
        </p:nvSpPr>
        <p:spPr>
          <a:xfrm>
            <a:off x="216000" y="142920"/>
            <a:ext cx="11880720" cy="68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 Narrow"/>
              </a:rPr>
              <a:t>IZ IZJAVE O ZADRUŽNI ISTOVETNOSTI (MEDNARODNA ZADRUŽNA ZVEZA, 1995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 Narrow"/>
              </a:rPr>
              <a:t>Vrednote: </a:t>
            </a: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Zadruge temeljijo na vrednotah samopomoči, demokratičnosti, samoodgovornosti, samouprave, enakosti, pravičnosti in solidar­nosti. Zadružni člani - v skladu z izročilom prvih ustanoviteljev - verjamejo v etične vrednote poštenosti, odprtosti, družbene odgovornosti in skrbi za dru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 Narrow"/>
              </a:rPr>
              <a:t>Načela: </a:t>
            </a: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Zadružna načela so smernice, s katerimi zadruge uresničujejo svoje vrednote v svoji dejavnos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načelo: Prostovoljno in odprto članstvo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ekonomska utemeljenost, možnost za hitro rast, ekonomsko in socialno vključevanje na podlagi samopomoči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2. načelo: Demokratično člansko upravljanje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enaka glasovalna pravica: član kot oseba ima prednost pred kapitalom,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3. načelo: Gospodarska udeležba članov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adruga zagotavlja osnovne ekonomske in socialne potrebe članov: nima špekulativnih namenov, dobiček se deli po sodelovanju, za kapital priznava največ omejeno nadomestilo, vsaj del rezerv naj bi bil nedeljivo premoženje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4. načelo: Avtonomija in neodvisnost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adruge niso podaljšana roka države ipd.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5. načelo: Izobraževanje, usposabljanje in obveščanje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adruga je šola gospodarske demokracije, predpostavlja pripravljenost članov, delavcev in poslovodstva za usposabljanje, vlagati je treba tudi v prepoznavnost zadrug v družbi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6. načelo: Sodelovanje med zadrugami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načelo samopomoči velja tudi za razmerja med zadrugami: zadruge druge in višjih stopenj, zadružne zveze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7. načelo: Skrb za skupnost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adruge se obnašajo družbeno odgovorne, ker so preko članstva povezane s svojim okoljem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oljeZBesedilom 2"/>
          <p:cNvSpPr/>
          <p:nvPr/>
        </p:nvSpPr>
        <p:spPr>
          <a:xfrm>
            <a:off x="735120" y="414360"/>
            <a:ext cx="1120932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DRUGE V EKONOMSKI TEORIJI IN RAZVOJNIH POLITIK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Prevladujoče ekonomske teorije v zadnjih desetletjih so zanemarjale alternativne organizacijsko poslovne modele in se nekritično osredotočale na dva nosilca družbenoekonomskega razvoj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trg in državo (bipolarni mode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Prepoznavnost zadrug se je zmanjšala kljub poročilom, priporočilom in resolucijam, ki  jih je  o družbenoekonomskem pomenu zadrug sprejemala Organizacija združenih narodo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že od devetdesetih let 20. stoletja napre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Pozitiven prispevek zadrug k trajnostnemu načinu gospodarjen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ki upošteva gospodarske, socialne in okoljske vidik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je postal opaznejši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finančni in gospodarski krizi po letu 200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Generalna skupščina OZN je leto 2012 razglasila 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mednarodno  leto zadru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zadruzna-zveza.si/images/stories/iyc_logo_en.gif"/>
          <p:cNvPicPr/>
          <p:nvPr/>
        </p:nvPicPr>
        <p:blipFill>
          <a:blip r:embed="rId1"/>
          <a:stretch/>
        </p:blipFill>
        <p:spPr>
          <a:xfrm>
            <a:off x="7861320" y="3365640"/>
            <a:ext cx="33973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jeZBesedilom 2"/>
          <p:cNvSpPr/>
          <p:nvPr/>
        </p:nvSpPr>
        <p:spPr>
          <a:xfrm>
            <a:off x="952560" y="622440"/>
            <a:ext cx="51102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RAZŠIRJENOST ZADRUG:  V SV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 podatkih Mednarodne zadružne zveze (izdaja 2018)  je na svetu okrog tri milijone zadrug, ki povezujejo 12% svetovnega prebivalstva (1 milijardo posameznikov) in zaposlujejo 280 milijonov ljudi, 10% svetovne populacije delavc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 podatkih Zadružnega monitorja (izdaja 2018) je v letu 2016, za katero sta MZZ in inštitut Euricse zbrala podatke za 2.575 največjih zadrug na svetu,   300 največjih zadrug  doseglo prihodke v višini 2.100 milijard USD prihodk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monitor.coop/sites/default/files/basic-page-image/cover-monitor-site-1868563162.jpg"/>
          <p:cNvPicPr/>
          <p:nvPr/>
        </p:nvPicPr>
        <p:blipFill>
          <a:blip r:embed="rId1"/>
          <a:stretch/>
        </p:blipFill>
        <p:spPr>
          <a:xfrm>
            <a:off x="6062760" y="622440"/>
            <a:ext cx="5802120" cy="548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jeZBesedilom 2"/>
          <p:cNvSpPr/>
          <p:nvPr/>
        </p:nvSpPr>
        <p:spPr>
          <a:xfrm>
            <a:off x="952560" y="622440"/>
            <a:ext cx="1011564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RAZŠIRJENOST ZADRUG:  V EV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Regionalna organizacija Zadruge Evrope (Cooperatives Europe, 2015) ocenjuje, da je v Evropi približno 160.000 zadrug z okrog 123 milijonov članov in 5,4 milijona zaposlenih delavc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6,2 milijona kmetov v Evropski uniji je članov okrog 22.000 kmetijskih zadrug, ki odkupijo in predelajo okrog 40% proizvodov celotnega kmetijstva, zaposlujejo približno 660.000 delavcev in dosegajo letne prihodke v višini 350 milijard EUR (vir: COGECA, 20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ome"/>
          <p:cNvPicPr/>
          <p:nvPr/>
        </p:nvPicPr>
        <p:blipFill>
          <a:blip r:embed="rId1"/>
          <a:stretch/>
        </p:blipFill>
        <p:spPr>
          <a:xfrm>
            <a:off x="5722920" y="622440"/>
            <a:ext cx="48578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oljeZBesedilom 1"/>
          <p:cNvSpPr/>
          <p:nvPr/>
        </p:nvSpPr>
        <p:spPr>
          <a:xfrm>
            <a:off x="714240" y="6254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 Narrow"/>
              </a:rPr>
              <a:t>Vir: AJPES, 2019</a:t>
            </a:r>
            <a:r>
              <a:rPr b="0" lang="sl-SI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Grafikon 5" descr=""/>
          <p:cNvPicPr/>
          <p:nvPr/>
        </p:nvPicPr>
        <p:blipFill>
          <a:blip r:embed="rId1"/>
          <a:stretch/>
        </p:blipFill>
        <p:spPr>
          <a:xfrm>
            <a:off x="615960" y="676440"/>
            <a:ext cx="106808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ljeZBesedilom 1"/>
          <p:cNvSpPr/>
          <p:nvPr/>
        </p:nvSpPr>
        <p:spPr>
          <a:xfrm>
            <a:off x="1003320" y="698400"/>
            <a:ext cx="10826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KMETIJSKE IN GOZDARSKE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vezujejo kmete kot dobavitelje in odjemalce zato,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gotavljajo članom dostop do trga in izravnalno pogajalsko mo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dodajajo vrednost kmetijskim in gozdarskim proizvodom (zlasti s predelavo in trženjem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realizirajo prihranke zaradi obsega poslova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krepijo konkurenčni položaj primarne proizvodnje z inovacijo proizvodov in jamstvom kakovosti in varno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dpirajo splošno koristne funkcije kmetijstva, zlasti na območjih z omejenimi dejavniki in v razmerah velike posestne razdrobljenosti (na primer Slovenij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5T04:01:22Z</dcterms:created>
  <dc:creator>Franci Avsec</dc:creator>
  <dc:description/>
  <dc:language>en-US</dc:language>
  <cp:lastModifiedBy>Jožica Vodopivec Rozman</cp:lastModifiedBy>
  <cp:lastPrinted>2020-01-08T11:22:20Z</cp:lastPrinted>
  <dcterms:modified xsi:type="dcterms:W3CDTF">2020-01-17T12:47:24Z</dcterms:modified>
  <cp:revision>136</cp:revision>
  <dc:subject/>
  <dc:title>PowerPointova predstavitev</dc:title>
</cp:coreProperties>
</file>